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EA687-2BD1-47A6-9BE5-9B224B5FE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9A3C3-186C-4C32-AD35-78EFAB7F5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D718B-78A2-4612-AC95-25E0B0734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3B3A1-B86F-4E21-A792-A6663067D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A47C54-CA74-4CD0-A4F0-616A25F712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F415E-ECDF-439D-85EE-D5246E097B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E2A59A-A8D4-4C04-A771-8AE4ADC833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E6D8E-5547-4E95-BB82-66A7ABA8A3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C97A4-4C0C-4684-BCB0-14C904BA37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D81102-9E14-4ACC-96EC-C9BF78356F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BD1BE-EF36-43BA-BEDD-A8B0B1FF4A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FEC52-9A8B-48A8-8335-CFE493531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0CA17-F50E-44EB-8F02-44EB38C205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844A7-9E75-400D-BDAE-36E30DA503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6B9EFF-7B28-49FD-8881-C20D21793F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05B6E9-6CF2-4950-90CD-EA653518CD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910FB-F51C-4876-99F1-C41CDBB642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128B0-1846-4BB1-A840-2434B6760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977AA-6DE1-4010-9D96-E97A65204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7BEEC-27CF-444E-ABDA-D40A603E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98108-8C39-4896-9E1E-D5DFDECFB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DF83-D8B8-4800-BB90-DA3EE6CD9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68358-DC61-4F28-BC2A-8084C0A09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DAC9-41F3-4B1E-834A-7EB41A367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8152-6A0D-4724-9A7A-745B1D1294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5CAE-A8AB-472F-AB6D-A07ED9E237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ploring America</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amie Cutler Morr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nit Summary</a:t>
            </a:r>
            <a:endParaRPr b="0" lang="en-US" sz="4400" spc="-1" strike="noStrike">
              <a:solidFill>
                <a:srgbClr val="ffffff"/>
              </a:solidFill>
              <a:latin typeface="Tahoma"/>
            </a:endParaRPr>
          </a:p>
        </p:txBody>
      </p:sp>
      <p:sp>
        <p:nvSpPr>
          <p:cNvPr id="86"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udents will become explorers from the time period 1492 – 1607 from a European country.  They will dress like explorers, think like explorers and act like explorers. They will define the role of an explorer and gather the materials needed to search for a western and shorter route to the Indies. They will role play the trip across the Atlantic Ocean, the landing in the strange world, as well as subsequent time in the unknown world. Each group of students will create a power point presentation of their trip. After presenting to the class, they will also present their projects in an assembly to the elementary depart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iculum Framing Questions</a:t>
            </a:r>
            <a:endParaRPr b="0" lang="en-US" sz="4000" spc="-1" strike="noStrike">
              <a:solidFill>
                <a:srgbClr val="ffffff"/>
              </a:solidFill>
              <a:latin typeface="Tahoma"/>
            </a:endParaRPr>
          </a:p>
        </p:txBody>
      </p:sp>
      <p:sp>
        <p:nvSpPr>
          <p:cNvPr id="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8000"/>
          </a:bodyPr>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sential Question</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are we all explorers on planet Earth?</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t Question</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is an explorer?</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o was an important European explorer from Spain and </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were his accomplishments?</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tent Questions</a:t>
            </a:r>
            <a:r>
              <a:rPr b="0" lang="en-US" sz="2000" spc="-1" strike="noStrike">
                <a:solidFill>
                  <a:srgbClr val="ffffff"/>
                </a:solidFill>
                <a:latin typeface="Tahoma"/>
              </a:rPr>
              <a:t>:</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efine Explorer.     Define European.</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country did Christopher Columbus explore for?</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country did Christopher Columbus explore?</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were Christopher Columbus’ accomplishments?</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was his effect on the Native Americans in San Salvad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1</a:t>
            </a:r>
            <a:r>
              <a:rPr b="0" lang="en-US" sz="4400" spc="-1" strike="noStrike" baseline="30000">
                <a:solidFill>
                  <a:srgbClr val="ffffff"/>
                </a:solidFill>
                <a:latin typeface="Tahoma"/>
              </a:rPr>
              <a:t>st</a:t>
            </a:r>
            <a:r>
              <a:rPr b="0" lang="en-US" sz="4400" spc="-1" strike="noStrike">
                <a:solidFill>
                  <a:srgbClr val="ffffff"/>
                </a:solidFill>
                <a:latin typeface="Tahoma"/>
              </a:rPr>
              <a:t> Century Skills</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roject will help my students develop 21</a:t>
            </a:r>
            <a:r>
              <a:rPr b="0" lang="en-US" sz="3200" spc="-1" strike="noStrike" baseline="30000">
                <a:solidFill>
                  <a:srgbClr val="ffffff"/>
                </a:solidFill>
                <a:latin typeface="Tahoma"/>
              </a:rPr>
              <a:t>st</a:t>
            </a:r>
            <a:r>
              <a:rPr b="0" lang="en-US" sz="3200" spc="-1" strike="noStrike">
                <a:solidFill>
                  <a:srgbClr val="ffffff"/>
                </a:solidFill>
                <a:latin typeface="Tahoma"/>
              </a:rPr>
              <a:t> century skills by: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ing with others</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ing to different roles</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technology to create a power point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ume shared responsibilities for collaborative work.</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eds Assessment</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eds assessment will gauge the students knowledge and misconceptions of map skills, life in the time period of 1492 to 1607, and lives and experiences of explorers during this time peri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y Goals for The Course</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reate a Project Based Unit, complete with assessments, standards, 21</a:t>
            </a:r>
            <a:r>
              <a:rPr b="0" lang="en-US" sz="3200" spc="-1" strike="noStrike" baseline="30000">
                <a:solidFill>
                  <a:srgbClr val="ffffff"/>
                </a:solidFill>
                <a:latin typeface="Tahoma"/>
              </a:rPr>
              <a:t>st</a:t>
            </a:r>
            <a:r>
              <a:rPr b="0" lang="en-US" sz="3200" spc="-1" strike="noStrike">
                <a:solidFill>
                  <a:srgbClr val="ffffff"/>
                </a:solidFill>
                <a:latin typeface="Tahoma"/>
              </a:rPr>
              <a:t> Century Skills, and technology that will be student centered.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learn to use technology that I have never even heard of and then to be able to use it with my stud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y goals for my student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about explorers and how to be explor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use technolog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work toge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be independent, self motivated, learn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quest for Feedback</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ll so very new to m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help with websites, costumes, props, checklists, or rubrics, would be appreciate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familiar with Discovery Streaming and rely on it for all my videos. Any other suggestions would be appreciate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looking for materials that are heavy on pictures and light on pri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6:10:49Z</dcterms:created>
  <dc:creator>EdServices1</dc:creator>
  <dc:description/>
  <dc:language>en-US</dc:language>
  <cp:lastModifiedBy>Presentation</cp:lastModifiedBy>
  <dcterms:modified xsi:type="dcterms:W3CDTF">2009-04-15T12:53:33Z</dcterms:modified>
  <cp:revision>25</cp:revision>
  <dc:subject/>
  <dc:title>Slide 1</dc:title>
</cp:coreProperties>
</file>